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1514-1A57-4FB0-9893-CFD179543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EF51-0CEA-4EC3-BC58-BE8429738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08A6-F98B-48F9-86CC-C79C5A3D0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CC73-9279-4FBC-A18A-571C06FD6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89ED-18BC-4E47-9006-7E5DDA141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84DD-914A-47C3-BF35-7259623F6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58AF-D281-419E-A8A3-06B1524AB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6080-E69A-497C-BFA8-BBD64748F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5849-DCD4-4FFF-8D57-454A56EB4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B1FA-9FA5-4068-8642-6E763F8D7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0905-AC68-45B5-839A-05FB4A215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0819-AECD-45D2-B594-5B9675B08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A5A5E-5216-4C7E-A652-BE28DF107E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extBox 3" descr=""/>
          <p:cNvPicPr/>
          <p:nvPr/>
        </p:nvPicPr>
        <p:blipFill>
          <a:blip r:embed="rId1"/>
          <a:stretch/>
        </p:blipFill>
        <p:spPr>
          <a:xfrm>
            <a:off x="-1176480" y="-969840"/>
            <a:ext cx="8802720" cy="32432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C:\Documents and Settings\051youngr\Local Settings\Temporary Internet Files\Content.IE5\5Y8P5M10\MPj04393500000[1].jpg"/>
          <p:cNvPicPr/>
          <p:nvPr/>
        </p:nvPicPr>
        <p:blipFill>
          <a:blip r:embed="rId2"/>
          <a:stretch/>
        </p:blipFill>
        <p:spPr>
          <a:xfrm>
            <a:off x="6248520" y="3962520"/>
            <a:ext cx="2895480" cy="2895480"/>
          </a:xfrm>
          <a:prstGeom prst="rect">
            <a:avLst/>
          </a:prstGeom>
          <a:ln w="0">
            <a:noFill/>
          </a:ln>
        </p:spPr>
      </p:pic>
      <p:sp>
        <p:nvSpPr>
          <p:cNvPr id="43" name="TextBox 5"/>
          <p:cNvSpPr/>
          <p:nvPr/>
        </p:nvSpPr>
        <p:spPr>
          <a:xfrm>
            <a:off x="152280" y="2209680"/>
            <a:ext cx="67820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efinit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 a “web log” is on online journal where people can post entries on topics of their choice.  Entries appear with the most recent at the top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logge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 A person who writes a blo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6"/>
          <p:cNvSpPr/>
          <p:nvPr/>
        </p:nvSpPr>
        <p:spPr>
          <a:xfrm rot="1690800">
            <a:off x="5380560" y="856800"/>
            <a:ext cx="3424320" cy="19227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ce1"/>
                </a:solidFill>
                <a:latin typeface="Calibri"/>
              </a:rPr>
              <a:t>In a recent </a:t>
            </a:r>
            <a:r>
              <a:rPr b="1" lang="en-US" sz="2400" spc="-1" strike="noStrike">
                <a:solidFill>
                  <a:srgbClr val="eeece1"/>
                </a:solidFill>
                <a:latin typeface="Calibri"/>
              </a:rPr>
              <a:t>blog</a:t>
            </a:r>
            <a:r>
              <a:rPr b="0" lang="en-US" sz="2400" spc="-1" strike="noStrike">
                <a:solidFill>
                  <a:srgbClr val="eeece1"/>
                </a:solidFill>
                <a:latin typeface="Calibri"/>
              </a:rPr>
              <a:t> post, a scientist stated he was close to discovering a new form of life in the ocea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7"/>
          <p:cNvSpPr/>
          <p:nvPr/>
        </p:nvSpPr>
        <p:spPr>
          <a:xfrm>
            <a:off x="304920" y="5151600"/>
            <a:ext cx="5715000" cy="146556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Blogs in Education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ublish your work for the world to see and comment o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are hobbies and interes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ave class discussions about topics being studie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6T17:29:02Z</dcterms:created>
  <dc:creator>Administrator</dc:creator>
  <dc:description/>
  <dc:language>en-US</dc:language>
  <cp:lastModifiedBy>Administrator</cp:lastModifiedBy>
  <dcterms:modified xsi:type="dcterms:W3CDTF">2009-03-06T17:58:25Z</dcterms:modified>
  <cp:revision>3</cp:revision>
  <dc:subject/>
  <dc:title>Slide 1</dc:title>
</cp:coreProperties>
</file>